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AA79-C255-4762-9FE0-275F301B7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39E4-C1C0-408B-8521-76647B27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29E2-18A6-41B3-B927-4E160B662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0ACA-2198-4316-BBE9-3E5E6A1C0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CCE3-5FF3-4249-8A43-8D3F52BA8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1F19-5E7F-4170-B228-64F092A0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50F7A-103B-4647-AA4D-34A579F1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AE8C-0799-4A69-A809-B3AE0A26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6C39-F302-4993-81A8-A9C4F754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27792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F543-92C2-4983-B3A5-3585AA2B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0F47-9F11-46D8-BF7B-0685F6CB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6C91-05DA-464A-B520-B4112034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2D7E-EB5D-4F8E-A5BE-0FAC2A8D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603C-09B7-43CF-AA4D-A7396827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590B-CF1C-40C2-9A8A-3AC1008C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2EE6-6236-43EE-9F11-204B59D88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77EC-2D52-44E5-BE63-0F940BE65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60E2-833C-4E71-8337-AC1F9F05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E76D-9F3D-4906-953B-CF17E1B9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EABB-97B1-4B39-B001-FAB701F0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6840" y="27792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A22F-7450-4B26-8494-E9F0F3DA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3C96-0BC2-4641-A14B-B22DD497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22AF-4CFC-49D9-9FFE-C2659AA7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248A-25FA-44AD-B55F-E2E5B902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931080"/>
            <a:chOff x="0" y="0"/>
            <a:chExt cx="9140760" cy="693108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89520" cy="312408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49800" cy="254304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19760" cy="14936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1520" cy="189360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6640" cy="359424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5720" cy="23907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2400" cy="127620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6360" cy="16668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48280" cy="11793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0760" cy="4539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0760" cy="53028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0760" cy="4539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57640" cy="320976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0200" cy="28335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6320" cy="37530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29000" cy="30672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3A263-74E5-482B-86DC-D440008D797B}" type="slidenum">
              <a:rPr b="0" lang="es-E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0760" cy="6931080"/>
            <a:chOff x="0" y="0"/>
            <a:chExt cx="9140760" cy="693108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89520" cy="312408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49800" cy="254304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19760" cy="14936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1520" cy="189360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6640" cy="359424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5720" cy="23907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2400" cy="127620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6360" cy="16668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48280" cy="11793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0760" cy="4539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0760" cy="53028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0760" cy="4539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57640" cy="320976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0200" cy="28335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6320" cy="37530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29000" cy="30672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769160" cy="17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677183D-2580-4EF6-AC57-B45D129BFF8B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328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MODALIDADES ORACIONALES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11280" y="2708280"/>
          <a:ext cx="8235360" cy="2733480"/>
        </p:xfrm>
        <a:graphic>
          <a:graphicData uri="http://schemas.openxmlformats.org/drawingml/2006/table">
            <a:tbl>
              <a:tblPr/>
              <a:tblGrid>
                <a:gridCol w="8235360"/>
              </a:tblGrid>
              <a:tr h="3520080">
                <a:tc>
                  <a:txBody>
                    <a:bodyPr lIns="90000" rIns="90000" tIns="140760" bIns="46800" anchor="t">
                      <a:noAutofit/>
                    </a:bodyPr>
                    <a:p>
                      <a:pPr algn="just">
                        <a:lnSpc>
                          <a:spcPct val="9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demos clasificar las oraciones según la modalidad, es decir, según la actitud del hablante, tanto en relación con el oyente como respecto a lo que dice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74411"/>
                        </a:gs>
                        <a:gs pos="100000">
                          <a:srgbClr val="55942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328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MODALIDAD: DEFINICIÓN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11280" y="1628640"/>
          <a:ext cx="8235720" cy="4653000"/>
        </p:xfrm>
        <a:graphic>
          <a:graphicData uri="http://schemas.openxmlformats.org/drawingml/2006/table">
            <a:tbl>
              <a:tblPr/>
              <a:tblGrid>
                <a:gridCol w="8235720"/>
              </a:tblGrid>
              <a:tr h="5190480">
                <a:tc>
                  <a:txBody>
                    <a:bodyPr lIns="90000" rIns="90000" tIns="140760" bIns="46800" anchor="t">
                      <a:noAutofit/>
                    </a:bodyPr>
                    <a:p>
                      <a:pPr algn="just">
                        <a:lnSpc>
                          <a:spcPct val="9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demos clasificar las oraciones según la “modalidad”.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 modalidad indica la actitud del hablante, tanto en relación con el oyente como respecto a lo que dice.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cisamente, cuando hablamos del “modo” en los verbos (indicativo, subjuntivo, imperativo), también nos referimos a la actitud del hablante.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74411"/>
                        </a:gs>
                        <a:gs pos="100000">
                          <a:srgbClr val="55942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328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MODALIDADES ORACIONALE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lasificación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90600" y="1447920"/>
          <a:ext cx="8453520" cy="5029200"/>
        </p:xfrm>
        <a:graphic>
          <a:graphicData uri="http://schemas.openxmlformats.org/drawingml/2006/table">
            <a:tbl>
              <a:tblPr/>
              <a:tblGrid>
                <a:gridCol w="8453520"/>
              </a:tblGrid>
              <a:tr h="5029200">
                <a:tc>
                  <a:txBody>
                    <a:bodyPr lIns="90000" rIns="90000" tIns="810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Verdana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unciativ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afirmativa o negativa): el hablante informa sobre algo: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tá lloviendo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ptativ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llamada también </a:t>
                      </a:r>
                      <a:r>
                        <a:rPr b="0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desiderativ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: el hablante expresa un deseo: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jalá llovies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clamativ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expresa una emoción. Por ejemplo,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¡Qué bien! ¡Gracias a Dios que llueve!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ubitativ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el emisor expresa duda. Por ejemplo,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Quizá llueva mañana”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terrogativ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el emisor realiza una pregunta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hortativ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expresa orden o mandato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74411"/>
                        </a:gs>
                        <a:gs pos="50000">
                          <a:srgbClr val="559426"/>
                        </a:gs>
                        <a:gs pos="100000">
                          <a:srgbClr val="274411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328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MODALIDADES ORACIONALE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lases de interrogativas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50920" y="1484280"/>
          <a:ext cx="8453520" cy="5041800"/>
        </p:xfrm>
        <a:graphic>
          <a:graphicData uri="http://schemas.openxmlformats.org/drawingml/2006/table">
            <a:tbl>
              <a:tblPr/>
              <a:tblGrid>
                <a:gridCol w="8453520"/>
              </a:tblGrid>
              <a:tr h="5041800">
                <a:tc>
                  <a:txBody>
                    <a:bodyPr lIns="90000" rIns="90000" tIns="810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Verdana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terrogativa direct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es la forma de preguntar más usual. Por ejemplo, “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¿Está lloviendo?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terrogativa indirect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la pregunta se plantea dentro de una oración subordinada, dependiendo de un verbo que indica entendimiento, sentido o lengua: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No sé si lloverá esta tarde”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terrogativa total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 la que se responde con sí o no: por ejemplo,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“¿Has estudiado mucho?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terrogativa parcial: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es la que pregunta por circunstancias: “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¿A qué hora llegas?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59426"/>
                        </a:gs>
                        <a:gs pos="100000">
                          <a:srgbClr val="274411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328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MODALIDADES ORACIONALE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xhortativas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50920" y="1484280"/>
          <a:ext cx="8453520" cy="4824000"/>
        </p:xfrm>
        <a:graphic>
          <a:graphicData uri="http://schemas.openxmlformats.org/drawingml/2006/table">
            <a:tbl>
              <a:tblPr/>
              <a:tblGrid>
                <a:gridCol w="8453520"/>
              </a:tblGrid>
              <a:tr h="4824000">
                <a:tc>
                  <a:txBody>
                    <a:bodyPr lIns="90000" rIns="90000" tIns="81000" bIns="46800" anchor="t">
                      <a:noAutofit/>
                    </a:bodyPr>
                    <a:p>
                      <a:pPr marL="90360" algn="ctr">
                        <a:lnSpc>
                          <a:spcPct val="123000"/>
                        </a:lnSpc>
                        <a:spcAft>
                          <a:spcPts val="1687"/>
                        </a:spcAft>
                        <a:tabLst>
                          <a:tab algn="l" pos="0"/>
                          <a:tab algn="l" pos="450720"/>
                          <a:tab algn="l" pos="5414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presan consejo, ruego, o mandato.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90360"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0720"/>
                          <a:tab algn="l" pos="5414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ra indicar ruego, consejo o sugerencia podemos emplear el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dicional simple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, el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térito imperfecto de indicativo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o el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térito imperfecto de subjuntivo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solamente en –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r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,  -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. Esta última posibilidad es muy formal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90360"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450720"/>
                          <a:tab algn="l" pos="5414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Debías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habérselo dicho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90360"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450720"/>
                          <a:tab algn="l" pos="5414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¿Te 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importaría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callarte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90360"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450720"/>
                          <a:tab algn="l" pos="5414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Quisiera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pedirte un favor.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Formal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74411"/>
                        </a:gs>
                        <a:gs pos="100000">
                          <a:srgbClr val="55942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328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MODALIDADES ORACIONALE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 Expresión de la orden o mandato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50920" y="1484280"/>
          <a:ext cx="8717040" cy="4995720"/>
        </p:xfrm>
        <a:graphic>
          <a:graphicData uri="http://schemas.openxmlformats.org/drawingml/2006/table">
            <a:tbl>
              <a:tblPr/>
              <a:tblGrid>
                <a:gridCol w="8717040"/>
              </a:tblGrid>
              <a:tr h="4995720">
                <a:tc>
                  <a:txBody>
                    <a:bodyPr lIns="90000" rIns="90000" tIns="810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ndato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órdenes o prohibiciones) pueden tener forma afirmativa o negativa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 imperativo solo tiene dos formas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en segunda persona, y solamente en afirmaciones):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nt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tú) –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ntad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vosotros)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ra otras personas, o con negación, empleamos el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e de subjuntivo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ígame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3ª persona singular, usted)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lo hagas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segunda persona singular)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liéntese a 100ºC durante 10 m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3ª singular)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74411"/>
                        </a:gs>
                        <a:gs pos="100000">
                          <a:srgbClr val="55942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328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MODALIDADES ORACIONALE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xpresión de la orden o mandato II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95280" y="2060640"/>
          <a:ext cx="8309160" cy="3960360"/>
        </p:xfrm>
        <a:graphic>
          <a:graphicData uri="http://schemas.openxmlformats.org/drawingml/2006/table">
            <a:tbl>
              <a:tblPr/>
              <a:tblGrid>
                <a:gridCol w="8309160"/>
              </a:tblGrid>
              <a:tr h="3960360">
                <a:tc>
                  <a:txBody>
                    <a:bodyPr lIns="90000" rIns="90000" tIns="810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 posible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struir oraciones de valor imperativo con el futuro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¡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Harás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lo que se te dice!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”, e incluso el presente: “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ú 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haces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eso y no se hable más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”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mbién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 puede emplear el infinitivo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en oraciones exhortativas dirigidas a un público indeterminado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Lavar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en agua fría.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No congelar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después de haber descongelado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74411"/>
                        </a:gs>
                        <a:gs pos="100000">
                          <a:srgbClr val="55942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328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MODALIDADES ORACIONALE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xpresión de la orden o mandato III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43000" y="1757520"/>
          <a:ext cx="8453160" cy="4551120"/>
        </p:xfrm>
        <a:graphic>
          <a:graphicData uri="http://schemas.openxmlformats.org/drawingml/2006/table">
            <a:tbl>
              <a:tblPr/>
              <a:tblGrid>
                <a:gridCol w="8453160"/>
              </a:tblGrid>
              <a:tr h="4551120">
                <a:tc>
                  <a:txBody>
                    <a:bodyPr lIns="90000" rIns="90000" tIns="810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arece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 infinitivo en oraciones en situaciones coloquiales, precedido de la preposición </a:t>
                      </a:r>
                      <a:r>
                        <a:rPr b="1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¡Niños, 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a dormir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!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mbién podemos emplear diversas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ífrasis modales de obligación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, con infinitivo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indent="108000"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Tienes que lavar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los plato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indent="108000"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Hay que recoger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la mesa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indent="108000"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Debes hacer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los deberes antes de salir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indent="108000"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Has de comportarte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mejor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74411"/>
                        </a:gs>
                        <a:gs pos="100000">
                          <a:srgbClr val="55942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2T19:38:06Z</dcterms:created>
  <dc:creator>Guillermo</dc:creator>
  <dc:description/>
  <dc:language>en-US</dc:language>
  <cp:lastModifiedBy>Guillermo</cp:lastModifiedBy>
  <dcterms:modified xsi:type="dcterms:W3CDTF">2014-07-19T11:54:48Z</dcterms:modified>
  <cp:revision>28</cp:revision>
  <dc:subject/>
  <dc:title>ADECUACIÓN Textos orales y escritos </dc:title>
</cp:coreProperties>
</file>